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21.gif" ContentType="image/gif"/>
  <Override PartName="/ppt/media/image19.gif" ContentType="image/gif"/>
  <Override PartName="/ppt/media/image20.gif" ContentType="image/gif"/>
  <Override PartName="/ppt/media/image18.gif" ContentType="image/gif"/>
  <Override PartName="/ppt/media/image16.gif" ContentType="image/gif"/>
  <Override PartName="/ppt/media/image15.gif" ContentType="image/gif"/>
  <Override PartName="/ppt/media/image12.gif" ContentType="image/gif"/>
  <Override PartName="/ppt/media/carbrake.wav" ContentType="audio/x-wav"/>
  <Override PartName="/ppt/media/image11.gif" ContentType="image/gif"/>
  <Override PartName="/ppt/media/chimes.wav" ContentType="audio/x-wav"/>
  <Override PartName="/ppt/media/image13.gif" ContentType="image/gif"/>
  <Override PartName="/ppt/media/image7.gif" ContentType="image/gif"/>
  <Override PartName="/ppt/media/image8.gif" ContentType="image/gif"/>
  <Override PartName="/ppt/media/image14.gif" ContentType="image/gif"/>
  <Override PartName="/ppt/media/image9.gif" ContentType="image/gif"/>
  <Override PartName="/ppt/media/image26.gif" ContentType="image/gif"/>
  <Override PartName="/ppt/media/image3.gif" ContentType="image/gif"/>
  <Override PartName="/ppt/media/image28.gif" ContentType="image/gif"/>
  <Override PartName="/ppt/media/image30.gif" ContentType="image/gif"/>
  <Override PartName="/ppt/media/image29.gif" ContentType="image/gif"/>
  <Override PartName="/ppt/media/image31.gif" ContentType="image/gif"/>
  <Override PartName="/ppt/media/image34.gif" ContentType="image/gif"/>
  <Override PartName="/ppt/media/image33.jpeg" ContentType="image/jpeg"/>
  <Override PartName="/ppt/media/image5.gif" ContentType="image/gif"/>
  <Override PartName="/ppt/media/image35.gif" ContentType="image/gif"/>
  <Override PartName="/ppt/media/image4.png" ContentType="image/png"/>
  <Override PartName="/ppt/media/image24.gif" ContentType="image/gif"/>
  <Override PartName="/ppt/media/camera.wav" ContentType="audio/x-wav"/>
  <Override PartName="/ppt/media/image17.gif" ContentType="image/gif"/>
  <Override PartName="/ppt/media/image32.gif" ContentType="image/gif"/>
  <Override PartName="/ppt/media/image2.gif" ContentType="image/gif"/>
  <Override PartName="/ppt/media/type.wav" ContentType="audio/x-wav"/>
  <Override PartName="/ppt/media/image6.jpeg" ContentType="image/jpeg"/>
  <Override PartName="/ppt/media/image25.gif" ContentType="image/gif"/>
  <Override PartName="/ppt/media/whoosh.wav" ContentType="audio/x-wav"/>
  <Override PartName="/ppt/media/image27.gif" ContentType="image/gif"/>
  <Override PartName="/ppt/media/image10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ADF0-63A6-4773-814A-9272ADD28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48E73-EB8F-4928-9173-307DF97BD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5793-7647-4967-8573-B2D4085EF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E9C8-24EE-4208-9215-5E87A3983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924-E704-4186-BCB0-E4168BD51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05122-8798-40E4-9780-D45A15BEE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ACF-F68C-4DA3-BF36-AFBFA33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F9B2-DD61-4160-88D8-B344615AC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3737-B060-4BBD-89B1-08E5A06C0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ACA-4B2C-4651-B589-A1AC5EDA8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A3DA8-D82A-4A5B-AC13-F2AEF73E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2A41-4EDC-48DE-8D99-7E6515CE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E495E-0D0D-4A3E-BA04-975527191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gif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whoosh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audio" Target="../media/chimes.wav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19.gif"/><Relationship Id="rId5" Type="http://schemas.openxmlformats.org/officeDocument/2006/relationships/image" Target="../media/image20.gif"/><Relationship Id="rId6" Type="http://schemas.openxmlformats.org/officeDocument/2006/relationships/image" Target="../media/image21.gif"/><Relationship Id="rId7" Type="http://schemas.openxmlformats.org/officeDocument/2006/relationships/image" Target="../media/image22.gif"/><Relationship Id="rId8" Type="http://schemas.openxmlformats.org/officeDocument/2006/relationships/image" Target="../media/image23.gif"/><Relationship Id="rId9" Type="http://schemas.openxmlformats.org/officeDocument/2006/relationships/image" Target="../media/image24.gif"/><Relationship Id="rId10" Type="http://schemas.openxmlformats.org/officeDocument/2006/relationships/image" Target="../media/image25.gif"/><Relationship Id="rId11" Type="http://schemas.openxmlformats.org/officeDocument/2006/relationships/image" Target="../media/image26.gif"/><Relationship Id="rId12" Type="http://schemas.openxmlformats.org/officeDocument/2006/relationships/image" Target="../media/image27.gif"/><Relationship Id="rId13" Type="http://schemas.openxmlformats.org/officeDocument/2006/relationships/image" Target="../media/image28.gif"/><Relationship Id="rId14" Type="http://schemas.openxmlformats.org/officeDocument/2006/relationships/audio" Target="../media/chimes.wav"/><Relationship Id="rId15" Type="http://schemas.openxmlformats.org/officeDocument/2006/relationships/audio" Target="../media/chimes.wav"/><Relationship Id="rId16" Type="http://schemas.openxmlformats.org/officeDocument/2006/relationships/audio" Target="../media/chimes.wav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carbrake.wav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2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gif"/><Relationship Id="rId3" Type="http://schemas.openxmlformats.org/officeDocument/2006/relationships/image" Target="../media/image35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695160" y="-81000"/>
            <a:ext cx="10534320" cy="73962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523880" y="685800"/>
            <a:ext cx="1143000" cy="5335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781680" y="2590920"/>
            <a:ext cx="762120" cy="4032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673280" y="1600200"/>
            <a:ext cx="51548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           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Unit  1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My name’s Gina . (3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8600" y="5334120"/>
            <a:ext cx="6705720" cy="1141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53600" y="2092320"/>
            <a:ext cx="429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（   ）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1. Hello !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2. 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3. Good morn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4. How are you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5. Spell your name, ple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6. What color is i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7. What is this in English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0066"/>
                </a:solidFill>
                <a:latin typeface="Times New Roman"/>
              </a:rPr>
              <a:t>(    )  8. What’s your name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56000" y="2057400"/>
            <a:ext cx="3207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mor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black and whit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J—A—C—K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t’s an orange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H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I’m fine, thank you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Good evening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cc0066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My name is Gina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35600" y="498600"/>
            <a:ext cx="839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Task 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66"/>
                </a:solidFill>
                <a:latin typeface="Times New Roman"/>
              </a:rPr>
              <a:t>Find proper responses in Column B for each sentence in Column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83520" y="1565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396120" y="1565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3560" y="20574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4280" y="2479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0520" y="2819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3920" y="3200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080" y="35812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440" y="39625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4280" y="43434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4280" y="47242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1295280" y="2209680"/>
            <a:ext cx="1600200" cy="1055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533520" y="3429000"/>
            <a:ext cx="1676160" cy="9428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2895480" y="914400"/>
            <a:ext cx="51008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Hello, Nem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_, Dory.  ___ are you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I’m ____, thank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d how are 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fine, __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What’s ____  ____ English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____  a  ____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: ____ _____ is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It is ____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7315200" y="5410080"/>
            <a:ext cx="838080" cy="83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811320" y="128592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ell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793840" y="1362240"/>
            <a:ext cx="94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22320" y="176688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944320" y="22003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951360" y="2604960"/>
            <a:ext cx="77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699880" y="258120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o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05880" y="303840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57440" y="3038400"/>
            <a:ext cx="45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963960" y="3900600"/>
            <a:ext cx="74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t’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258880" y="390060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1320" y="43578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801680" y="435780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20800" y="4791240"/>
            <a:ext cx="11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el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7320" y="2714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ask 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1981080" cy="21333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380160" y="304920"/>
            <a:ext cx="645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Complete the conversations after the mode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       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ff0000"/>
                </a:solidFill>
                <a:latin typeface="Times New Roman"/>
              </a:rPr>
              <a:t>根据示例完成对话）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885760" y="1285920"/>
            <a:ext cx="5322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odel :   A: What’s his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His name is Yao Mi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543800" y="2743200"/>
            <a:ext cx="1328760" cy="16002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76160" y="2657520"/>
            <a:ext cx="483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ff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:  ____ her name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B: __________ Dais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734640" y="2590920"/>
            <a:ext cx="120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964680" y="3114720"/>
            <a:ext cx="18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er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81280" y="4768920"/>
            <a:ext cx="5356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.  A:  ________________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B: __________ Father Christ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600200" y="4114800"/>
            <a:ext cx="1646280" cy="15238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4785120" y="471492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his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97480" y="5172120"/>
            <a:ext cx="185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is name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2286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Look at the pictures and fill in the blanks.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看图完成对话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914400" y="1295280"/>
            <a:ext cx="773280" cy="175284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905120" y="1447920"/>
            <a:ext cx="1143000" cy="1600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915480" y="3124080"/>
            <a:ext cx="80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Li L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969200" y="3108240"/>
            <a:ext cx="107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Han Me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45360" y="1295280"/>
            <a:ext cx="544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Hi, my name is Li Lei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: ___ Han Mei. ___ to meet you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Nice to ____ you, Han Mei. D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you know my father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父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Han : What’s ____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Li :  ___ name ___ Li Mal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486400" y="1676520"/>
            <a:ext cx="9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y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421520" y="214776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’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02960" y="2147760"/>
            <a:ext cx="9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72360" y="2529000"/>
            <a:ext cx="86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me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699880" y="342900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40520" y="3809880"/>
            <a:ext cx="76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05160" y="3809880"/>
            <a:ext cx="41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5105520"/>
            <a:ext cx="1219320" cy="10951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838800" y="4419720"/>
            <a:ext cx="6261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Look! ____ is his na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 : Sun Wuko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n : Oh, great. Wukong is his ____ na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un is his ____ nam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2000" y="4410000"/>
            <a:ext cx="103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h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471280" y="5248440"/>
            <a:ext cx="6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l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71080" y="5653080"/>
            <a:ext cx="75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57080" y="527220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93680" y="5705640"/>
            <a:ext cx="178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18320" y="3581280"/>
            <a:ext cx="67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gir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91440" y="3571920"/>
            <a:ext cx="71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9966"/>
                </a:solidFill>
                <a:latin typeface="Times New Roman"/>
              </a:rPr>
              <a:t>bo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781680" y="1143000"/>
            <a:ext cx="914400" cy="5223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1066680" y="1295280"/>
            <a:ext cx="822600" cy="8226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1676520" y="2590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2666880" y="16765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191120" y="1219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5638680" y="1752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7"/>
          <a:stretch/>
        </p:blipFill>
        <p:spPr>
          <a:xfrm>
            <a:off x="6553080" y="2514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8"/>
          <a:stretch/>
        </p:blipFill>
        <p:spPr>
          <a:xfrm>
            <a:off x="5791320" y="35053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9"/>
          <a:stretch/>
        </p:blipFill>
        <p:spPr>
          <a:xfrm>
            <a:off x="4648320" y="43434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10"/>
          <a:stretch/>
        </p:blipFill>
        <p:spPr>
          <a:xfrm>
            <a:off x="3352680" y="42670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11"/>
          <a:stretch/>
        </p:blipFill>
        <p:spPr>
          <a:xfrm>
            <a:off x="2133720" y="365760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12"/>
          <a:stretch/>
        </p:blipFill>
        <p:spPr>
          <a:xfrm>
            <a:off x="7162920" y="4648320"/>
            <a:ext cx="1295280" cy="16002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270520" y="2914560"/>
            <a:ext cx="77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973240" y="2147760"/>
            <a:ext cx="71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060440" y="1743120"/>
            <a:ext cx="89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th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167080" y="213372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27440" y="306216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50560" y="4052880"/>
            <a:ext cx="59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20800" y="48909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487692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743920" y="382428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00800" y="4019400"/>
            <a:ext cx="519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3"/>
          <a:stretch/>
        </p:blipFill>
        <p:spPr>
          <a:xfrm>
            <a:off x="3809880" y="2666880"/>
            <a:ext cx="1295640" cy="9716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4115160" y="3382920"/>
            <a:ext cx="88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z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719280" y="425520"/>
            <a:ext cx="141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ask 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65120" y="609480"/>
            <a:ext cx="372960" cy="3049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1170720" y="1066680"/>
            <a:ext cx="667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o you know these numbers?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你知道这些号码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?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02200" y="1967040"/>
            <a:ext cx="61041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气象查询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电话号码查号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警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医疗急救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报警电话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___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733920" y="4876920"/>
            <a:ext cx="1523880" cy="12985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4267440" y="1981080"/>
            <a:ext cx="260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1 one-two-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32480" y="2514600"/>
            <a:ext cx="266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4 one-one-fou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81640" y="298620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19 one-one-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61840" y="3505320"/>
            <a:ext cx="27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120 one-two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70720" y="3952800"/>
            <a:ext cx="268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110 one-one-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74320" y="609480"/>
            <a:ext cx="631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Let’s read these numbers.(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朗读这些数词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7524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5973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33000" y="1295280"/>
            <a:ext cx="89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3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013360" y="129528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80653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994800" y="129528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602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8460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655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84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9461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308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0548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010640" y="1905120"/>
            <a:ext cx="10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258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4000" y="2452680"/>
            <a:ext cx="5563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Can you solve the addition problem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你会做下列加法题吗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?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11800" y="3495600"/>
            <a:ext cx="758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Example 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例如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):  --What’s six and one? –It’s seve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050840" y="4267080"/>
            <a:ext cx="601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hat’s two and thre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zero and nine? 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four and three? --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3333cc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--What’s one and seven? –It’s 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696080" y="4495680"/>
            <a:ext cx="892440" cy="1828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7086600" y="4114800"/>
            <a:ext cx="1295280" cy="11430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6005160" y="4257720"/>
            <a:ext cx="7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04800" y="4648320"/>
            <a:ext cx="79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4680" y="5119560"/>
            <a:ext cx="99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ev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64840" y="5500800"/>
            <a:ext cx="8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e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-304920" y="-304920"/>
            <a:ext cx="9753840" cy="76964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6248520" y="5105520"/>
            <a:ext cx="1017360" cy="124596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903240" cy="89244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1905120" y="0"/>
            <a:ext cx="5867280" cy="426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宋体"/>
              </a:rPr>
              <a:t>Goodbye !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6T05:10:11Z</dcterms:created>
  <dc:creator>hgp</dc:creator>
  <dc:description/>
  <dc:language>en-US</dc:language>
  <cp:lastModifiedBy>luomingjiang</cp:lastModifiedBy>
  <dcterms:modified xsi:type="dcterms:W3CDTF">2005-09-17T00:22:45Z</dcterms:modified>
  <cp:revision>10</cp:revision>
  <dc:subject/>
  <dc:title>PowerPoint 演示文稿</dc:title>
</cp:coreProperties>
</file>